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B88-AFC5-45AA-86E7-E69B8497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DB1-8D69-4FA0-9E41-CD9313E1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275A-1634-47F7-9B7B-2B8A1A6B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208-C102-4F4F-8DC0-E9839187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04E3-42C0-4609-9894-0978B115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1CA1-F0DB-440E-9A5B-9253E88A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BF0D-1222-44C8-92B9-594AC209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709A-9DCB-473E-9E22-122B96BE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6C02-353B-4745-83D1-E20963E3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D8E7-CA62-41E1-9661-28E5E089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6E51-D6F9-446F-B723-73D15CFF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3DD-DC1A-4331-A4AC-4407CA72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9035-68A9-4855-B12D-87DAD6C5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2972-2A3B-45B8-A2EF-28FF7A24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6964-A012-470F-8B78-3B78519A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2A14-0699-41D6-AF87-1FFE4182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09DD-63C7-45EF-9D34-9E756672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A74-E5BB-493D-A89A-A283DD0E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FB8-E428-4B68-A808-7A60B7F4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872-077C-4A27-B874-0243794E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6B7-BF93-4ED5-8FEE-FA0C6AD9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F48-273B-4D85-AF7F-87FB886F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717-978A-415C-82A1-72B5EF23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F42-45C7-46AA-9B00-50F636AD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44B1-9005-4B9A-9224-3C5D2ADC1D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7C37-94A2-4DE3-9BFA-C9F561E361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Trampoline shoes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shoes of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y D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15264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47:22Z</dcterms:created>
  <dc:creator>ICt Department</dc:creator>
  <dc:description/>
  <dc:language>en-US</dc:language>
  <cp:lastModifiedBy>ICt Department</cp:lastModifiedBy>
  <dcterms:modified xsi:type="dcterms:W3CDTF">2009-05-20T16:07:02Z</dcterms:modified>
  <cp:revision>2</cp:revision>
  <dc:subject/>
  <dc:title> Trampoline shoes </dc:title>
</cp:coreProperties>
</file>