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CD3-66DD-4637-9006-21D32B05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126-ACF1-4871-B76F-44FFF504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BD0E-185C-4D40-98C2-85874BAB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3E8-47E6-4A24-B385-A95BB590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F2F7-1FBA-4A6A-8DEC-2091EB66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1964-56E5-4EB4-8A12-9A3A2D9D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2259-C37D-40C4-A7EC-EAFD2D1A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7BF2-5531-433E-B48B-73DA2BD7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508D-7E9F-4337-9F55-DCA087A2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D13A-883A-41FD-9D63-BE1A0D07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A83A-A2F4-4BA6-B792-FCCF4746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B8B-3884-4415-A8A9-7F014050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EC8F-4FDA-4BEA-98B8-0ABD1C02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B66D-11EA-40BB-AE10-F56FD576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F4A8-72F7-4D72-A0E9-08AAD558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636E-6CC7-40C6-87E3-0823E333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60CA-0F68-4799-90DE-FD2DED51D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3FF-1B71-46B7-936F-0880C027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8C0-BCB4-401E-9ECC-E97863A2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F6F-FD8A-47F4-B78B-13AE9FE2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65F-7CDD-4AD8-A233-CFA0469C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B6F-4BA6-4552-9B40-9B7C0968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C03-8AF4-4F93-BE1F-A71BE080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473-1A1A-40E6-A69B-6D43C662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3581-D9C8-493D-954C-4BABF5D394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388D-E606-411E-BC2C-98F6B481AD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Trampoline shoes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shoes of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y Der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152640" y="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3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47:22Z</dcterms:created>
  <dc:creator>ICt Department</dc:creator>
  <dc:description/>
  <dc:language>en-US</dc:language>
  <cp:lastModifiedBy>ICt Department</cp:lastModifiedBy>
  <dcterms:modified xsi:type="dcterms:W3CDTF">2009-05-20T16:07:02Z</dcterms:modified>
  <cp:revision>2</cp:revision>
  <dc:subject/>
  <dc:title> Trampoline shoes </dc:title>
</cp:coreProperties>
</file>