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2C5-4BDA-4CC1-9AB0-D0587404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C49-4734-45BE-8F3C-E878327F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E30-EDD9-42FB-A7D3-C2F97929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4AE-029D-459F-8C22-1966A227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CE32-98A0-4727-93B2-92D49922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E5FC-DA51-4725-A0B3-9F251BA2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B78F-1F84-48A4-9843-4FAB1F3F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46C2-DDEE-4422-8974-E1AD512E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6EAB-ED67-4C3C-B369-B47E6258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5238-E4B6-426E-BF4A-CB8D5080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EE0E-29B7-4BBB-B7CB-74CF48C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628-4FD9-4D5A-BEB1-F1126800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25E-EA5A-4B53-90A4-B01B21FB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9931-9DDC-4FDE-8584-5EFC98F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93B7-C08A-49A3-9E38-A707EC69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6C28-9EEF-4DD6-B05F-AF8AC5FB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2D7B-B228-46AA-84E3-29336657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113-C06B-4382-AA6F-4BC9740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6E6-5989-4E3F-9B20-F96E440E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116-A4F3-4A52-8C61-6314D787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7E1D-9E9E-442C-ACB7-33C78355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C18-E2C8-4078-A751-F6D17E3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EC3-9083-463F-A9D6-9F755F1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51C-AF6B-4F0B-A2CD-707234C7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8314-239D-4D85-AF33-87C79EFA84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C250-10C5-4AD1-AA6D-E30B6E2549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rampoline shoe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hoes of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D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47:22Z</dcterms:created>
  <dc:creator>ICt Department</dc:creator>
  <dc:description/>
  <dc:language>en-US</dc:language>
  <cp:lastModifiedBy>ICt Department</cp:lastModifiedBy>
  <dcterms:modified xsi:type="dcterms:W3CDTF">2009-05-20T16:07:02Z</dcterms:modified>
  <cp:revision>2</cp:revision>
  <dc:subject/>
  <dc:title> Trampoline shoes </dc:title>
</cp:coreProperties>
</file>