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2D3-0D1E-4CB5-BD29-68CC2616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091-14A9-448D-8380-6B53F839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F1A-62F8-48F6-A5F7-F7250342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4B1-724B-406D-876D-C4AC0FAC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75CA-BB71-4F32-BCDB-395AB251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670E-D86E-4E92-B259-E04CB899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9F94-1C97-4DE7-8C5A-88A7366E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2D65-DFB8-4873-B739-AC1B94C3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B5F0-0380-4951-A5B2-DB370356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0E8F-184C-4613-BEC1-D52E157A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AC5E-035D-431F-BF4C-E1B0A6FF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A36-EC33-4165-849E-28C89D44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FEC7-DD02-48C8-97B9-41AEC3ED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4472-F6DA-4E08-B713-9DB368C9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02B7-9052-4F77-9956-19A667DB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7C9C-815D-4564-AC92-73B265D0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5FEE-4AE7-4882-927C-99F2A6AB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0B6-1036-47B0-8C69-FF471978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E34-A109-4710-95B4-62793D8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CF3-2839-4C1D-82D1-192AC345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207-86EE-4AFD-8B7E-AFFDB475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20D-6719-47BA-A2EA-B1FF054C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551-D58C-4B21-AD20-9C7D2663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FCB-FC3D-4766-A7C9-14CCEECD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9C85-50C8-4B71-A772-4648DA7DF3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A327-ACA2-4AF9-849B-86ECBBF390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Trampoline shoes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shoes of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y D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15264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47:22Z</dcterms:created>
  <dc:creator>ICt Department</dc:creator>
  <dc:description/>
  <dc:language>en-US</dc:language>
  <cp:lastModifiedBy>ICt Department</cp:lastModifiedBy>
  <dcterms:modified xsi:type="dcterms:W3CDTF">2009-05-20T16:07:02Z</dcterms:modified>
  <cp:revision>2</cp:revision>
  <dc:subject/>
  <dc:title> Trampoline shoes </dc:title>
</cp:coreProperties>
</file>