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FDCB-99CC-43F4-BB4D-3FB8AA74D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64D3-1840-42DD-A231-92C26CBCA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6A8C-F2E6-48FF-A6F4-4ABB242BF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8C6B-6D81-4BEA-B877-222E4A39D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3D787-B224-45AC-A38E-2F135F034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85A96-8E90-46DC-B10F-47711F60D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1A52A-6FD3-4FEA-A9FE-978A75E33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D5BAF-1042-4F52-995F-7ABA8A3F4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05DC8-66EB-47E0-AD83-CD8B7F290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1B7CD-8903-4600-8745-C7D854BA7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DE67C-26FF-403B-85BD-ABAF7FC1D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FF44-1245-4EA6-B0B1-7D476ACF7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55349-46BB-40E8-AC1B-15A949CB4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D7CC5-A2DB-47A5-9D78-872FAF7F2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42952-5BF2-4ACE-B6B7-C95CC2EE5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71D3D-29E5-475C-9A91-C5EE1C2E5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F4C31-615F-41D7-8B07-DB6EFDB65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89B4-9026-4168-ACE7-4F1CF4E24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1C16-4C05-478C-82F3-5B928F69D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3409-0504-4133-88B7-2242C079D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E7BB-5CC7-4CE7-8FC4-CB8D8856F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809A-6A34-4E2A-B88E-588F3106F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166B-21DB-497B-B31F-A9153AB6F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56F0-314A-4496-99BD-D3A1527E5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ADB02-CA85-4978-8946-8C0DCF45D7A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F6CF3-BCB0-4A93-8BE1-F027CDF8DBC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CA" sz="4800" spc="-1" strike="noStrike">
                <a:solidFill>
                  <a:srgbClr val="b2b2b2"/>
                </a:solidFill>
                <a:latin typeface="Arial"/>
              </a:rPr>
              <a:t>Trampoline shoes 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e shoes of the fu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By Der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9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5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-152640" y="0"/>
            <a:ext cx="92962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3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1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15:47:22Z</dcterms:created>
  <dc:creator>ICt Department</dc:creator>
  <dc:description/>
  <dc:language>en-US</dc:language>
  <cp:lastModifiedBy>ICt Department</cp:lastModifiedBy>
  <dcterms:modified xsi:type="dcterms:W3CDTF">2009-05-20T16:07:02Z</dcterms:modified>
  <cp:revision>2</cp:revision>
  <dc:subject/>
  <dc:title> Trampoline shoes </dc:title>
</cp:coreProperties>
</file>