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4A3-436C-4A86-964B-D5B88F5D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9F4-A49F-4E12-903C-8821F0E3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008-D0F9-4038-A4C5-E8DF1A6E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AC8-3C3B-4F0A-9CD4-49320625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D775-1199-43F8-889A-61C6FA77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7A22-679B-4F42-BC8B-91979494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8E20-5623-4E1E-8ACC-BB356AFA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6D50-CD99-4B11-B43D-5CAFC358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0BD5-3886-466D-9E6B-91A9BE8E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916D-D700-47FA-B944-E3532746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CE5A-F88A-4D1C-8A54-EB4F3E97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EE9-9BFC-421B-B21B-A81F4734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D112-4B02-4525-BA77-39D64CB1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E60D-A390-472C-A6AF-41381BA5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8E32-771A-4F3E-9733-E7181971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DFB6-3C14-4787-AA49-D27546E1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9F1D-34E2-496F-93E2-C6AFB4B3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4CC-B6F4-472D-BA51-1E5EE2A9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7F1-CBE9-4858-9A80-B2070088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AD9-278E-4693-9A74-AA642D1E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19F-FB27-443B-AB93-BEF73BC5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17E-05F3-47E8-B96B-83B1D692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C04-D207-464E-8B2F-915198BE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F3B-F679-4A37-B786-6EAB22ED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9407-E781-451E-A4BC-10A12BC999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3FE5-C000-4210-94D3-AEDD208B56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cwrecreation.com/images/McDonalds%2520Logo.JPG&amp;imgrefurl=http://www.peedeecyclones.com/contentedit/index.php%3Foption%3Dcom_content%26task%3Dview%26id%3D27%26Itemid%3D58&amp;usg=__tcyQaWfOfqfGYWLGx4OGyo9_A9E=&amp;h=870&amp;w=900&amp;sz=162&amp;hl=en&amp;start=2&amp;um=1&amp;tbnid=2VPhSxLAgFOriM:&amp;tbnh=141&amp;tbnw=146&amp;prev=/images%3Fq%3Dmc%2Bdonalds%26ndsp%3D20%26hl%3Den%26safe%3Dactive%26sa%3DG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oosociety.files.wordpress.com/2008/11/assiniboine-park-zoo-kendr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Hatche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Gary Paul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5840"/>
            <a:ext cx="67053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movie-the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Kendra the tiger loves her new red planet 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Chicken Ch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3.bp.blogspot.com/_oPORV3481Rs/SWzjrdVDmBI/AAAAAAAAAhg/47MGrumnkvo/s400/image002.jpg&amp;imgrefurl=http://sharingtimesofmylife.blogspot.com/2009/01/deer-photos-taken-at-birds-hill-park.html&amp;usg=__MdNZ3NIXDi3hWo3-WzTmPMHpSWw=&amp;h=266&amp;w=400&amp;sz=35&amp;hl=en&amp;start=23&amp;um=1&amp;tbnid=-yMXxTpSZYiyPM:&amp;tbnh=82&amp;tbnw=124&amp;prev=/images%3Fq%3Dbirds%2Bhill%2Bpark%26ndsp%3D20%26hl%3Den%26safe%3Dactive%26sa%3DN%26start%3D20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www.cwrecreation.com/images/McDonalds%2520Logo.JPG&amp;imgrefurl=http://www.peedeecyclones.com/contentedit/index.php%3Foption%3Dcom_content%26task%3Dview%26id%3D27%26Itemid%3D58&amp;usg=__tcyQaWfOfqfGYWLGx4OGyo9_A9E=&amp;h=870&amp;w=900&amp;sz=162&amp;hl=en&amp;start=2&amp;um=1&amp;tbnid=2VPhSxLAgFOriM:&amp;tbnh=141&amp;tbnw=146&amp;prev=/images%3Fq%3Dmc%2Bdonalds%26ndsp%3D20%26hl%3Den%26safe%3Dactive%26sa%3DG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www.mysteinbach.ca/directory/spotlight/chicken-chef.JPG&amp;imgrefurl=http://www.mysteinbach.ca/directory/spot_chicken_chef.html&amp;usg=__IX1U7MJP8H9Nl6La7AcyQllicDs=&amp;h=300&amp;w=400&amp;sz=64&amp;hl=en&amp;start=1&amp;um=1&amp;tbnid=g-NR3q4uqeHU8M:&amp;tbnh=93&amp;tbnw=124&amp;prev=/images%3Fq%3Dchicken%2Bchef%26hl%3Den%26safe%3Dactive%26sa%3DG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images.google.ca/imgres?imgurl=http://zoosociety.files.wordpress.com/2008/11/assiniboine-park-zoo-kendra.jpg&amp;imgrefurl=http://zoosociety.wordpress.com/2008/11/26/zoo-enrichment-group-wins-boomer-ball-contest/&amp;usg=__Uwq76d42j3DdhCo3yzkf1i6bPZU=&amp;h=480&amp;w=640&amp;sz=166&amp;hl=en&amp;start=15&amp;um=1&amp;tbnid=k4DJqvf51oZ6VM:&amp;tbnh=103&amp;tbnw=137&amp;prev=/images%3Fq%3Dasiniboine%2Bzoo%26hl%3Den%26safe%3Dactive%26sa%3DN%26um%3D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images.google.ca/imgres?imgurl=http://www.wsd1.org/carpathia/Student/Archive/03-04/Community/PanAm%2520Pool/index.3.jpg&amp;imgrefurl=http://www.wsd1.org/carpathia/Student/Archive/03-04/Community/PanAm%2520Pool/index.html&amp;usg=__xUVnAI50k1g1ahx5_hsz3UQPxSU=&amp;h=257&amp;w=541&amp;sz=20&amp;hl=en&amp;start=3&amp;um=1&amp;tbnid=Jvj3vERVWFXMRM:&amp;tbnh=63&amp;tbnw=132&amp;prev=/images%3Fq%3Dpanam%2Bpool%26hl%3Den%26safe%3Dactive%26sa%3DG%26um%3D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images.google.ca/imgres?imgurl=http://expedientmeans.files.wordpress.com/2009/01/movie-theater.jpg&amp;imgrefurl=http://expedientmeans.wordpress.com/2009/01/13/movie-studios-try-to-reinvent-themselves-in-3d/&amp;usg=__2gggZjHFpM3YaQVNP2pJ1bx85mg=&amp;h=576&amp;w=720&amp;sz=45&amp;hl=en&amp;start=1&amp;um=1&amp;tbnid=Bz48vEVFkiHt5M:&amp;tbnh=112&amp;tbnw=140&amp;prev=/images%3Fq%3Dmovie%2Btheader%26hl%3Den%26safe%3Dactive%26sa%3DG%26um%3D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7:25:40Z</dcterms:created>
  <dc:creator>ICt Department</dc:creator>
  <dc:description/>
  <dc:language>en-US</dc:language>
  <cp:lastModifiedBy>ICt Department</cp:lastModifiedBy>
  <dcterms:modified xsi:type="dcterms:W3CDTF">2009-05-12T14:45:15Z</dcterms:modified>
  <cp:revision>4</cp:revision>
  <dc:subject/>
  <dc:title>The Hatchet</dc:title>
</cp:coreProperties>
</file>