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C8B5-4888-406C-BB40-05D908420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9E73-39E1-4DBD-9D5F-BAB591991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B8DD-1BDC-4EF4-A404-3B5BBF568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B896-EBAF-476C-B460-6F09EECD3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3D521-7244-4090-9DAD-CF5D390F5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B29F0-A652-4815-A4D0-F043E9B92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7EFE2-2532-40B5-9E15-79E3B8060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2EFB4-46EF-4AD2-97B2-442E598C8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270AA-7E71-4ED7-8F67-194035AFC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F8988-AC50-4204-A398-FFC7E5B97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CF3BC-1BE6-4307-82C7-D8A1C490B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C711-54EC-488A-990E-BBB9F7983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BEA6C-3221-4D67-B9CA-1628736E3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39FFB-F985-4E60-B20E-54AF1730F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04C07-FF78-48C4-8C10-3D0ADB837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A4827-80C7-44FE-B6D7-567C41A59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819BD-CBE2-45D8-9245-0D39754C5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4DA2-38FA-49BD-8FD6-4AEFA1CF7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1902-B192-46BF-B1BE-82A764AD3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2675-4E32-45CF-B829-B13AC5611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5100-974B-4898-90FB-2F22AD2B1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987B-0FE4-4DEF-89DD-AAA20F21E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6976-5040-4780-833D-69AA2D8AF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9F1A-9FD2-4E0E-9438-D2CC30103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0DFE3-9A54-496D-A78B-6352DEB5219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98778-EDF9-4C06-A8E2-DFB9F3EA79E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a/imgres?imgurl=http://www.cwrecreation.com/images/McDonalds%2520Logo.JPG&amp;imgrefurl=http://www.peedeecyclones.com/contentedit/index.php%3Foption%3Dcom_content%26task%3Dview%26id%3D27%26Itemid%3D58&amp;usg=__tcyQaWfOfqfGYWLGx4OGyo9_A9E=&amp;h=870&amp;w=900&amp;sz=162&amp;hl=en&amp;start=2&amp;um=1&amp;tbnid=2VPhSxLAgFOriM:&amp;tbnh=141&amp;tbnw=146&amp;prev=/images%3Fq%3Dmc%2Bdonalds%26ndsp%3D20%26hl%3Den%26safe%3Dactive%26sa%3DG%26um%3D1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zoosociety.files.wordpress.com/2008/11/assiniboine-park-zoo-kendra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The Hatche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 Gary Pauls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9320" y="15840"/>
            <a:ext cx="670536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movie-theater"/>
          <p:cNvPicPr/>
          <p:nvPr/>
        </p:nvPicPr>
        <p:blipFill>
          <a:blip r:embed="rId1"/>
          <a:stretch/>
        </p:blipFill>
        <p:spPr>
          <a:xfrm>
            <a:off x="0" y="0"/>
            <a:ext cx="9144000" cy="69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9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Kendra the tiger loves her new red planet bal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" dur="1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Chicken Che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http://images.google.ca/imgres?imgurl=http://3.bp.blogspot.com/_oPORV3481Rs/SWzjrdVDmBI/AAAAAAAAAhg/47MGrumnkvo/s400/image002.jpg&amp;imgrefurl=http://sharingtimesofmylife.blogspot.com/2009/01/deer-photos-taken-at-birds-hill-park.html&amp;usg=__MdNZ3NIXDi3hWo3-WzTmPMHpSWw=&amp;h=266&amp;w=400&amp;sz=35&amp;hl=en&amp;start=23&amp;um=1&amp;tbnid=-yMXxTpSZYiyPM:&amp;tbnh=82&amp;tbnw=124&amp;prev=/images%3Fq%3Dbirds%2Bhill%2Bpark%26ndsp%3D20%26hl%3Den%26safe%3Dactive%26sa%3DN%26start%3D20%26um%3D1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http://images.google.ca/imgres?imgurl=http://www.cwrecreation.com/images/McDonalds%2520Logo.JPG&amp;imgrefurl=http://www.peedeecyclones.com/contentedit/index.php%3Foption%3Dcom_content%26task%3Dview%26id%3D27%26Itemid%3D58&amp;usg=__tcyQaWfOfqfGYWLGx4OGyo9_A9E=&amp;h=870&amp;w=900&amp;sz=162&amp;hl=en&amp;start=2&amp;um=1&amp;tbnid=2VPhSxLAgFOriM:&amp;tbnh=141&amp;tbnw=146&amp;prev=/images%3Fq%3Dmc%2Bdonalds%26ndsp%3D20%26hl%3Den%26safe%3Dactive%26sa%3DG%26um%3D1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http://images.google.ca/imgres?imgurl=http://www.mysteinbach.ca/directory/spotlight/chicken-chef.JPG&amp;imgrefurl=http://www.mysteinbach.ca/directory/spot_chicken_chef.html&amp;usg=__IX1U7MJP8H9Nl6La7AcyQllicDs=&amp;h=300&amp;w=400&amp;sz=64&amp;hl=en&amp;start=1&amp;um=1&amp;tbnid=g-NR3q4uqeHU8M:&amp;tbnh=93&amp;tbnw=124&amp;prev=/images%3Fq%3Dchicken%2Bchef%26hl%3Den%26safe%3Dactive%26sa%3DG%26um%3D1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2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http://images.google.ca/imgres?imgurl=http://zoosociety.files.wordpress.com/2008/11/assiniboine-park-zoo-kendra.jpg&amp;imgrefurl=http://zoosociety.wordpress.com/2008/11/26/zoo-enrichment-group-wins-boomer-ball-contest/&amp;usg=__Uwq76d42j3DdhCo3yzkf1i6bPZU=&amp;h=480&amp;w=640&amp;sz=166&amp;hl=en&amp;start=15&amp;um=1&amp;tbnid=k4DJqvf51oZ6VM:&amp;tbnh=103&amp;tbnw=137&amp;prev=/images%3Fq%3Dasiniboine%2Bzoo%26hl%3Den%26safe%3Dactive%26sa%3DN%26um%3D1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images.google.ca/imgres?imgurl=http://www.wsd1.org/carpathia/Student/Archive/03-04/Community/PanAm%2520Pool/index.3.jpg&amp;imgrefurl=http://www.wsd1.org/carpathia/Student/Archive/03-04/Community/PanAm%2520Pool/index.html&amp;usg=__xUVnAI50k1g1ahx5_hsz3UQPxSU=&amp;h=257&amp;w=541&amp;sz=20&amp;hl=en&amp;start=3&amp;um=1&amp;tbnid=Jvj3vERVWFXMRM:&amp;tbnh=63&amp;tbnw=132&amp;prev=/images%3Fq%3Dpanam%2Bpool%26hl%3Den%26safe%3Dactive%26sa%3DG%26um%3D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images.google.ca/imgres?imgurl=http://expedientmeans.files.wordpress.com/2009/01/movie-theater.jpg&amp;imgrefurl=http://expedientmeans.wordpress.com/2009/01/13/movie-studios-try-to-reinvent-themselves-in-3d/&amp;usg=__2gggZjHFpM3YaQVNP2pJ1bx85mg=&amp;h=576&amp;w=720&amp;sz=45&amp;hl=en&amp;start=1&amp;um=1&amp;tbnid=Bz48vEVFkiHt5M:&amp;tbnh=112&amp;tbnw=140&amp;prev=/images%3Fq%3Dmovie%2Btheader%26hl%3Den%26safe%3Dactive%26sa%3DG%26um%3D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4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4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4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4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4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4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2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7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7:25:40Z</dcterms:created>
  <dc:creator>ICt Department</dc:creator>
  <dc:description/>
  <dc:language>en-US</dc:language>
  <cp:lastModifiedBy>ICt Department</cp:lastModifiedBy>
  <dcterms:modified xsi:type="dcterms:W3CDTF">2009-05-12T14:45:15Z</dcterms:modified>
  <cp:revision>4</cp:revision>
  <dc:subject/>
  <dc:title>The Hatchet</dc:title>
</cp:coreProperties>
</file>