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F5E-E1DF-44F9-AE75-161D8B6B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9A8-B1F7-4417-B88E-3B23EFA4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5B0-3ACB-4A9E-A300-3074A5D9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B6E-EDF2-4ED3-A2D1-F1E40BC1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BADB-2086-4A75-A835-349031E0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DEDD-51A3-4D9A-9191-47602359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83BC-CA19-413C-8F4E-21137730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3556-C61A-48DA-8009-188AA733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F03B-C9D2-4087-A33E-97D13E1F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BBEE-1318-4930-9002-BC14DEC3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17CF-F15E-4D6E-A540-70CE6BB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285-8D45-4BE8-9F3A-7FBEC790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30FD-598E-4325-A64A-0A186DA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5B82-DDDB-4A22-9230-B039233C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A4BC-3B7F-4CE7-BB7C-87317D0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E100-9E57-47A1-B702-5A298F5D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41CB-E993-4779-82A1-28F73C1F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766-8655-4919-A000-CEE3F8C4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302-8327-4DC5-8D12-3BDD8C06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B50-DF90-48F3-84F9-4DA69D4C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D45-C0C4-4AAF-B33B-604D0760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DC46-6BEE-41D4-9022-9ABFDA2C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EBC-8058-4E13-8952-44BD9E80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29F-8DDB-4326-84A5-3CB0DB43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5C20-E036-4208-A065-75DCB64971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53FE-86C1-492D-8AED-CDE5AB1AD9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oosociety.files.wordpress.com/2008/11/assiniboine-park-zoo-kendr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Hatch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Gary Paul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5840"/>
            <a:ext cx="67053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ovie-the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Kendra the tiger loves her new red planet 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Chicken Ch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3.bp.blogspot.com/_oPORV3481Rs/SWzjrdVDmBI/AAAAAAAAAhg/47MGrumnkvo/s400/image002.jpg&amp;imgrefurl=http://sharingtimesofmylife.blogspot.com/2009/01/deer-photos-taken-at-birds-hill-park.html&amp;usg=__MdNZ3NIXDi3hWo3-WzTmPMHpSWw=&amp;h=266&amp;w=400&amp;sz=35&amp;hl=en&amp;start=23&amp;um=1&amp;tbnid=-yMXxTpSZYiyPM:&amp;tbnh=82&amp;tbnw=124&amp;prev=/images%3Fq%3Dbirds%2Bhill%2Bpark%26ndsp%3D20%26hl%3Den%26safe%3Dactive%26sa%3DN%26start%3D20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mysteinbach.ca/directory/spotlight/chicken-chef.JPG&amp;imgrefurl=http://www.mysteinbach.ca/directory/spot_chicken_chef.html&amp;usg=__IX1U7MJP8H9Nl6La7AcyQllicDs=&amp;h=300&amp;w=400&amp;sz=64&amp;hl=en&amp;start=1&amp;um=1&amp;tbnid=g-NR3q4uqeHU8M:&amp;tbnh=93&amp;tbnw=124&amp;prev=/images%3Fq%3Dchicken%2Bchef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images.google.ca/imgres?imgurl=http://zoosociety.files.wordpress.com/2008/11/assiniboine-park-zoo-kendra.jpg&amp;imgrefurl=http://zoosociety.wordpress.com/2008/11/26/zoo-enrichment-group-wins-boomer-ball-contest/&amp;usg=__Uwq76d42j3DdhCo3yzkf1i6bPZU=&amp;h=480&amp;w=640&amp;sz=166&amp;hl=en&amp;start=15&amp;um=1&amp;tbnid=k4DJqvf51oZ6VM:&amp;tbnh=103&amp;tbnw=137&amp;prev=/images%3Fq%3Dasiniboine%2Bzoo%26hl%3Den%26safe%3Dactive%26sa%3DN%26um%3D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www.wsd1.org/carpathia/Student/Archive/03-04/Community/PanAm%2520Pool/index.3.jpg&amp;imgrefurl=http://www.wsd1.org/carpathia/Student/Archive/03-04/Community/PanAm%2520Pool/index.html&amp;usg=__xUVnAI50k1g1ahx5_hsz3UQPxSU=&amp;h=257&amp;w=541&amp;sz=20&amp;hl=en&amp;start=3&amp;um=1&amp;tbnid=Jvj3vERVWFXMRM:&amp;tbnh=63&amp;tbnw=132&amp;prev=/images%3Fq%3Dpanam%2Bpool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expedientmeans.files.wordpress.com/2009/01/movie-theater.jpg&amp;imgrefurl=http://expedientmeans.wordpress.com/2009/01/13/movie-studios-try-to-reinvent-themselves-in-3d/&amp;usg=__2gggZjHFpM3YaQVNP2pJ1bx85mg=&amp;h=576&amp;w=720&amp;sz=45&amp;hl=en&amp;start=1&amp;um=1&amp;tbnid=Bz48vEVFkiHt5M:&amp;tbnh=112&amp;tbnw=140&amp;prev=/images%3Fq%3Dmovie%2Btheader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25:40Z</dcterms:created>
  <dc:creator>ICt Department</dc:creator>
  <dc:description/>
  <dc:language>en-US</dc:language>
  <cp:lastModifiedBy>ICt Department</cp:lastModifiedBy>
  <dcterms:modified xsi:type="dcterms:W3CDTF">2009-05-12T14:45:15Z</dcterms:modified>
  <cp:revision>4</cp:revision>
  <dc:subject/>
  <dc:title>The Hatchet</dc:title>
</cp:coreProperties>
</file>