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718-9FFB-40A7-91DF-7055C4DE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5C4-6611-4C80-86C0-7395E57A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2F0-0DEB-4BC2-A3D5-1B644CEE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CE7-01B8-4F15-9D9B-7CEE6935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8C78-F7A3-4029-B685-7DEC17C0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C83-446B-4812-838D-9FDCE0C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3EAF-279B-4C2A-AFAA-C4B37496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0863-7D19-4074-93C6-E31BF708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8428-B530-4DA8-B37C-9AFFE0DA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C4D-BEEC-43BF-8D63-9691B27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AE3-4418-4099-B5C4-94C71B60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20C-95DA-449B-BD9B-31B57CB9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241F-A3B3-47A5-B349-19AB199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B692-784E-4A93-B1D8-9C28CD1E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DBF-5393-470C-BD65-4A0EAA2B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A03A-A423-4F6F-9A12-451CA245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42D4-AE8C-4BB9-8301-6A619A8A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360-3FA4-40D6-B539-C9B2377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D22-59E5-4D63-93EC-8DCC143B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968-6D8B-4713-9BCA-5BF7ADFD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B42-0ACE-49FB-8EE5-9990D06C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C47-01B8-4613-B424-931495C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1C8-B274-4E18-838E-DD43135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7A2-622A-40AC-A7BE-07B4D1C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696-B532-4B9D-86A4-7993335688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321-E261-40B2-89C5-0B11FC3B2C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osociety.files.wordpress.com/2008/11/assiniboine-park-zoo-kendr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atch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Gary Paul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840"/>
            <a:ext cx="6705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vie-the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Kendra the tiger loves her new red planet 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hicken Ch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3.bp.blogspot.com/_oPORV3481Rs/SWzjrdVDmBI/AAAAAAAAAhg/47MGrumnkvo/s400/image002.jpg&amp;imgrefurl=http://sharingtimesofmylife.blogspot.com/2009/01/deer-photos-taken-at-birds-hill-park.html&amp;usg=__MdNZ3NIXDi3hWo3-WzTmPMHpSWw=&amp;h=266&amp;w=400&amp;sz=35&amp;hl=en&amp;start=23&amp;um=1&amp;tbnid=-yMXxTpSZYiyPM:&amp;tbnh=82&amp;tbnw=124&amp;prev=/images%3Fq%3Dbirds%2Bhill%2Bpark%26ndsp%3D20%26hl%3Den%26safe%3Dactive%26sa%3DN%26start%3D20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mysteinbach.ca/directory/spotlight/chicken-chef.JPG&amp;imgrefurl=http://www.mysteinbach.ca/directory/spot_chicken_chef.html&amp;usg=__IX1U7MJP8H9Nl6La7AcyQllicDs=&amp;h=300&amp;w=400&amp;sz=64&amp;hl=en&amp;start=1&amp;um=1&amp;tbnid=g-NR3q4uqeHU8M:&amp;tbnh=93&amp;tbnw=124&amp;prev=/images%3Fq%3Dchicken%2Bchef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google.ca/imgres?imgurl=http://zoosociety.files.wordpress.com/2008/11/assiniboine-park-zoo-kendra.jpg&amp;imgrefurl=http://zoosociety.wordpress.com/2008/11/26/zoo-enrichment-group-wins-boomer-ball-contest/&amp;usg=__Uwq76d42j3DdhCo3yzkf1i6bPZU=&amp;h=480&amp;w=640&amp;sz=166&amp;hl=en&amp;start=15&amp;um=1&amp;tbnid=k4DJqvf51oZ6VM:&amp;tbnh=103&amp;tbnw=137&amp;prev=/images%3Fq%3Dasiniboine%2Bzoo%26hl%3Den%26safe%3Dactive%26sa%3DN%26um%3D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www.wsd1.org/carpathia/Student/Archive/03-04/Community/PanAm%2520Pool/index.3.jpg&amp;imgrefurl=http://www.wsd1.org/carpathia/Student/Archive/03-04/Community/PanAm%2520Pool/index.html&amp;usg=__xUVnAI50k1g1ahx5_hsz3UQPxSU=&amp;h=257&amp;w=541&amp;sz=20&amp;hl=en&amp;start=3&amp;um=1&amp;tbnid=Jvj3vERVWFXMRM:&amp;tbnh=63&amp;tbnw=132&amp;prev=/images%3Fq%3Dpanam%2Bpool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expedientmeans.files.wordpress.com/2009/01/movie-theater.jpg&amp;imgrefurl=http://expedientmeans.wordpress.com/2009/01/13/movie-studios-try-to-reinvent-themselves-in-3d/&amp;usg=__2gggZjHFpM3YaQVNP2pJ1bx85mg=&amp;h=576&amp;w=720&amp;sz=45&amp;hl=en&amp;start=1&amp;um=1&amp;tbnid=Bz48vEVFkiHt5M:&amp;tbnh=112&amp;tbnw=140&amp;prev=/images%3Fq%3Dmovie%2Btheader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25:40Z</dcterms:created>
  <dc:creator>ICt Department</dc:creator>
  <dc:description/>
  <dc:language>en-US</dc:language>
  <cp:lastModifiedBy>ICt Department</cp:lastModifiedBy>
  <dcterms:modified xsi:type="dcterms:W3CDTF">2009-05-12T14:45:15Z</dcterms:modified>
  <cp:revision>4</cp:revision>
  <dc:subject/>
  <dc:title>The Hatchet</dc:title>
</cp:coreProperties>
</file>