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4977-410F-49A7-8734-D366FB1E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D5D6-5B7B-4B81-84CD-CCE23D39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A55F-E8EB-4AF1-872E-8B93524D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0706-77EF-4337-A4A4-334EDA4C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AD3D-5A94-476B-BF53-CE8B1843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2EEB-8D19-49B5-A6BF-85ACD1F9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F987-2977-460F-9D38-E81BB227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4A7C-B183-4763-B0C9-9BB1B351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D8FE-CEA1-4E02-94E8-CC3E8762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AA3A-4614-40D1-8168-5306F66E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6CC0-ADDB-4EB1-B2D7-05CC043C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760F-01B2-4D89-8F33-608D4901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358B-E0C0-4A08-AC20-5C45D1D9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5C7E-3F80-4879-91A9-C8ADC7F8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8D70-1217-4B0D-BB99-0E36A56B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2C01-6615-4787-887D-219AE034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9B22-A373-4B43-B024-89351BA8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7A31-DF2E-4011-B7BC-EB55EC6F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B020-E9E8-4D2D-91CC-A356280B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9736-730B-4AEE-9D23-D98E4469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BB14-F005-401A-996F-1F1EB58D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8521-60B6-4283-BCB7-350971D2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0189-2910-4EB6-8DB4-8E22880C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DE31-F9E5-44F2-953D-36600F87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3927-096A-4CD0-B7A8-56F218453E0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4475-EB58-4390-AA62-A97A8E16A43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cwrecreation.com/images/McDonalds%2520Logo.JPG&amp;imgrefurl=http://www.peedeecyclones.com/contentedit/index.php%3Foption%3Dcom_content%26task%3Dview%26id%3D27%26Itemid%3D58&amp;usg=__tcyQaWfOfqfGYWLGx4OGyo9_A9E=&amp;h=870&amp;w=900&amp;sz=162&amp;hl=en&amp;start=2&amp;um=1&amp;tbnid=2VPhSxLAgFOriM:&amp;tbnh=141&amp;tbnw=146&amp;prev=/images%3Fq%3Dmc%2Bdonalds%26ndsp%3D20%26hl%3Den%26safe%3Dactive%26sa%3DG%26um%3D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zoosociety.files.wordpress.com/2008/11/assiniboine-park-zoo-kendr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Hatche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Gary Paul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5840"/>
            <a:ext cx="670536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movie-theater"/>
          <p:cNvPicPr/>
          <p:nvPr/>
        </p:nvPicPr>
        <p:blipFill>
          <a:blip r:embed="rId1"/>
          <a:stretch/>
        </p:blipFill>
        <p:spPr>
          <a:xfrm>
            <a:off x="0" y="0"/>
            <a:ext cx="9144000" cy="69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Kendra the tiger loves her new red planet 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Chicken Ch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http://images.google.ca/imgres?imgurl=http://3.bp.blogspot.com/_oPORV3481Rs/SWzjrdVDmBI/AAAAAAAAAhg/47MGrumnkvo/s400/image002.jpg&amp;imgrefurl=http://sharingtimesofmylife.blogspot.com/2009/01/deer-photos-taken-at-birds-hill-park.html&amp;usg=__MdNZ3NIXDi3hWo3-WzTmPMHpSWw=&amp;h=266&amp;w=400&amp;sz=35&amp;hl=en&amp;start=23&amp;um=1&amp;tbnid=-yMXxTpSZYiyPM:&amp;tbnh=82&amp;tbnw=124&amp;prev=/images%3Fq%3Dbirds%2Bhill%2Bpark%26ndsp%3D20%26hl%3Den%26safe%3Dactive%26sa%3DN%26start%3D20%26um%3D1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http://images.google.ca/imgres?imgurl=http://www.cwrecreation.com/images/McDonalds%2520Logo.JPG&amp;imgrefurl=http://www.peedeecyclones.com/contentedit/index.php%3Foption%3Dcom_content%26task%3Dview%26id%3D27%26Itemid%3D58&amp;usg=__tcyQaWfOfqfGYWLGx4OGyo9_A9E=&amp;h=870&amp;w=900&amp;sz=162&amp;hl=en&amp;start=2&amp;um=1&amp;tbnid=2VPhSxLAgFOriM:&amp;tbnh=141&amp;tbnw=146&amp;prev=/images%3Fq%3Dmc%2Bdonalds%26ndsp%3D20%26hl%3Den%26safe%3Dactive%26sa%3DG%26um%3D1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http://images.google.ca/imgres?imgurl=http://www.mysteinbach.ca/directory/spotlight/chicken-chef.JPG&amp;imgrefurl=http://www.mysteinbach.ca/directory/spot_chicken_chef.html&amp;usg=__IX1U7MJP8H9Nl6La7AcyQllicDs=&amp;h=300&amp;w=400&amp;sz=64&amp;hl=en&amp;start=1&amp;um=1&amp;tbnid=g-NR3q4uqeHU8M:&amp;tbnh=93&amp;tbnw=124&amp;prev=/images%3Fq%3Dchicken%2Bchef%26hl%3Den%26safe%3Dactive%26sa%3DG%26um%3D1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images.google.ca/imgres?imgurl=http://zoosociety.files.wordpress.com/2008/11/assiniboine-park-zoo-kendra.jpg&amp;imgrefurl=http://zoosociety.wordpress.com/2008/11/26/zoo-enrichment-group-wins-boomer-ball-contest/&amp;usg=__Uwq76d42j3DdhCo3yzkf1i6bPZU=&amp;h=480&amp;w=640&amp;sz=166&amp;hl=en&amp;start=15&amp;um=1&amp;tbnid=k4DJqvf51oZ6VM:&amp;tbnh=103&amp;tbnw=137&amp;prev=/images%3Fq%3Dasiniboine%2Bzoo%26hl%3Den%26safe%3Dactive%26sa%3DN%26um%3D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images.google.ca/imgres?imgurl=http://www.wsd1.org/carpathia/Student/Archive/03-04/Community/PanAm%2520Pool/index.3.jpg&amp;imgrefurl=http://www.wsd1.org/carpathia/Student/Archive/03-04/Community/PanAm%2520Pool/index.html&amp;usg=__xUVnAI50k1g1ahx5_hsz3UQPxSU=&amp;h=257&amp;w=541&amp;sz=20&amp;hl=en&amp;start=3&amp;um=1&amp;tbnid=Jvj3vERVWFXMRM:&amp;tbnh=63&amp;tbnw=132&amp;prev=/images%3Fq%3Dpanam%2Bpool%26hl%3Den%26safe%3Dactive%26sa%3DG%26um%3D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images.google.ca/imgres?imgurl=http://expedientmeans.files.wordpress.com/2009/01/movie-theater.jpg&amp;imgrefurl=http://expedientmeans.wordpress.com/2009/01/13/movie-studios-try-to-reinvent-themselves-in-3d/&amp;usg=__2gggZjHFpM3YaQVNP2pJ1bx85mg=&amp;h=576&amp;w=720&amp;sz=45&amp;hl=en&amp;start=1&amp;um=1&amp;tbnid=Bz48vEVFkiHt5M:&amp;tbnh=112&amp;tbnw=140&amp;prev=/images%3Fq%3Dmovie%2Btheader%26hl%3Den%26safe%3Dactive%26sa%3DG%26um%3D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4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7:25:40Z</dcterms:created>
  <dc:creator>ICt Department</dc:creator>
  <dc:description/>
  <dc:language>en-US</dc:language>
  <cp:lastModifiedBy>ICt Department</cp:lastModifiedBy>
  <dcterms:modified xsi:type="dcterms:W3CDTF">2009-05-12T14:45:15Z</dcterms:modified>
  <cp:revision>4</cp:revision>
  <dc:subject/>
  <dc:title>The Hatchet</dc:title>
</cp:coreProperties>
</file>