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E78B-AA14-4573-BCB5-A0BD8CF9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06C-7557-4306-AC02-B9D531B3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175-CB4C-40D6-B61B-A56E57A9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1C3-63AD-4196-827D-1CE7033B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6602-C829-42AB-A58C-FAFF4082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6517-C8AE-4B57-A201-FBEEFE33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E297-2D3D-4EDB-96BA-1D412E7B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4A40-F5B3-4809-B49B-FC0465C3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32B3-4957-4A7D-A899-5F283EE2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30F8-9776-4860-81BD-9DB40000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1537-D8E0-4C21-AE87-624CD0AC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E10-3BD3-42D2-9B6C-7686E279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2C62-39DF-42FC-A7A5-1B6D6E07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7CFA-4020-49AE-909F-83E3D718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49F1-DED8-4088-9A63-3D8E8DF6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CC51-39C4-4924-AF7B-B29AC1B4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5404-2CB4-461B-8F3C-D79EFFF7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CBA-67CA-4C7A-A837-8510C49D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513E-B9A0-44E0-93C6-D5DC7B82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1D6-C2CA-4E5D-9F55-4CAF7DBD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9E20-835C-42B2-A1E6-A48EA7F3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39A-C53E-4223-B2A9-2DA28168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CAA-CA41-4EC0-8576-E7B0ADA9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DDA-5DDA-485F-8E1A-EFC3E1A4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4039-B21F-40B2-A52A-32EF9E4859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AAB7-2B4D-414E-81F8-61AAC078B78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cwrecreation.com/images/McDonalds%2520Logo.JPG&amp;imgrefurl=http://www.peedeecyclones.com/contentedit/index.php%3Foption%3Dcom_content%26task%3Dview%26id%3D27%26Itemid%3D58&amp;usg=__tcyQaWfOfqfGYWLGx4OGyo9_A9E=&amp;h=870&amp;w=900&amp;sz=162&amp;hl=en&amp;start=2&amp;um=1&amp;tbnid=2VPhSxLAgFOriM:&amp;tbnh=141&amp;tbnw=146&amp;prev=/images%3Fq%3Dmc%2Bdonalds%26ndsp%3D20%26hl%3Den%26safe%3Dactive%26sa%3DG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oosociety.files.wordpress.com/2008/11/assiniboine-park-zoo-kendr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Hatche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Gary Paul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5840"/>
            <a:ext cx="670536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movie-the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Kendra the tiger loves her new red planet 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Chicken Ch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ttp://images.google.ca/imgres?imgurl=http://3.bp.blogspot.com/_oPORV3481Rs/SWzjrdVDmBI/AAAAAAAAAhg/47MGrumnkvo/s400/image002.jpg&amp;imgrefurl=http://sharingtimesofmylife.blogspot.com/2009/01/deer-photos-taken-at-birds-hill-park.html&amp;usg=__MdNZ3NIXDi3hWo3-WzTmPMHpSWw=&amp;h=266&amp;w=400&amp;sz=35&amp;hl=en&amp;start=23&amp;um=1&amp;tbnid=-yMXxTpSZYiyPM:&amp;tbnh=82&amp;tbnw=124&amp;prev=/images%3Fq%3Dbirds%2Bhill%2Bpark%26ndsp%3D20%26hl%3Den%26safe%3Dactive%26sa%3DN%26start%3D20%26um%3D1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ttp://images.google.ca/imgres?imgurl=http://www.cwrecreation.com/images/McDonalds%2520Logo.JPG&amp;imgrefurl=http://www.peedeecyclones.com/contentedit/index.php%3Foption%3Dcom_content%26task%3Dview%26id%3D27%26Itemid%3D58&amp;usg=__tcyQaWfOfqfGYWLGx4OGyo9_A9E=&amp;h=870&amp;w=900&amp;sz=162&amp;hl=en&amp;start=2&amp;um=1&amp;tbnid=2VPhSxLAgFOriM:&amp;tbnh=141&amp;tbnw=146&amp;prev=/images%3Fq%3Dmc%2Bdonalds%26ndsp%3D20%26hl%3Den%26safe%3Dactive%26sa%3DG%26um%3D1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ttp://images.google.ca/imgres?imgurl=http://www.mysteinbach.ca/directory/spotlight/chicken-chef.JPG&amp;imgrefurl=http://www.mysteinbach.ca/directory/spot_chicken_chef.html&amp;usg=__IX1U7MJP8H9Nl6La7AcyQllicDs=&amp;h=300&amp;w=400&amp;sz=64&amp;hl=en&amp;start=1&amp;um=1&amp;tbnid=g-NR3q4uqeHU8M:&amp;tbnh=93&amp;tbnw=124&amp;prev=/images%3Fq%3Dchicken%2Bchef%26hl%3Den%26safe%3Dactive%26sa%3DG%26um%3D1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images.google.ca/imgres?imgurl=http://zoosociety.files.wordpress.com/2008/11/assiniboine-park-zoo-kendra.jpg&amp;imgrefurl=http://zoosociety.wordpress.com/2008/11/26/zoo-enrichment-group-wins-boomer-ball-contest/&amp;usg=__Uwq76d42j3DdhCo3yzkf1i6bPZU=&amp;h=480&amp;w=640&amp;sz=166&amp;hl=en&amp;start=15&amp;um=1&amp;tbnid=k4DJqvf51oZ6VM:&amp;tbnh=103&amp;tbnw=137&amp;prev=/images%3Fq%3Dasiniboine%2Bzoo%26hl%3Den%26safe%3Dactive%26sa%3DN%26um%3D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images.google.ca/imgres?imgurl=http://www.wsd1.org/carpathia/Student/Archive/03-04/Community/PanAm%2520Pool/index.3.jpg&amp;imgrefurl=http://www.wsd1.org/carpathia/Student/Archive/03-04/Community/PanAm%2520Pool/index.html&amp;usg=__xUVnAI50k1g1ahx5_hsz3UQPxSU=&amp;h=257&amp;w=541&amp;sz=20&amp;hl=en&amp;start=3&amp;um=1&amp;tbnid=Jvj3vERVWFXMRM:&amp;tbnh=63&amp;tbnw=132&amp;prev=/images%3Fq%3Dpanam%2Bpool%26hl%3Den%26safe%3Dactive%26sa%3DG%26um%3D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images.google.ca/imgres?imgurl=http://expedientmeans.files.wordpress.com/2009/01/movie-theater.jpg&amp;imgrefurl=http://expedientmeans.wordpress.com/2009/01/13/movie-studios-try-to-reinvent-themselves-in-3d/&amp;usg=__2gggZjHFpM3YaQVNP2pJ1bx85mg=&amp;h=576&amp;w=720&amp;sz=45&amp;hl=en&amp;start=1&amp;um=1&amp;tbnid=Bz48vEVFkiHt5M:&amp;tbnh=112&amp;tbnw=140&amp;prev=/images%3Fq%3Dmovie%2Btheader%26hl%3Den%26safe%3Dactive%26sa%3DG%26um%3D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7:25:40Z</dcterms:created>
  <dc:creator>ICt Department</dc:creator>
  <dc:description/>
  <dc:language>en-US</dc:language>
  <cp:lastModifiedBy>ICt Department</cp:lastModifiedBy>
  <dcterms:modified xsi:type="dcterms:W3CDTF">2009-05-12T14:45:15Z</dcterms:modified>
  <cp:revision>4</cp:revision>
  <dc:subject/>
  <dc:title>The Hatchet</dc:title>
</cp:coreProperties>
</file>