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0" y="2766960"/>
            <a:ext cx="4834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7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8,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8,7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7,9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,2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0" y="2766960"/>
            <a:ext cx="511020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" fill="hold"/>
                                        <p:tgtEl>
                                          <p:spTgt spid="7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200"/>
                            </p:stCondLst>
                            <p:childTnLst>
                              <p:par>
                                <p:cTn id="27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700"/>
                            </p:stCondLst>
                            <p:childTnLst>
                              <p:par>
                                <p:cTn id="2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200"/>
                            </p:stCondLst>
                            <p:childTnLst>
                              <p:par>
                                <p:cTn id="2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8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,4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7,2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7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0" y="2766960"/>
            <a:ext cx="47242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9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,2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,10,2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,2,1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,5,1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>
            <a:off x="69840" y="2766960"/>
            <a:ext cx="485136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0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99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0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15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24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2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1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49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57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849320" y="1135080"/>
            <a:ext cx="591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8840" y="2620800"/>
            <a:ext cx="37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You’v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14920" y="4114800"/>
            <a:ext cx="182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he $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5360" y="5049720"/>
            <a:ext cx="24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Mileston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,8,6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,6,9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2,6,7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,6,8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69840" y="2766960"/>
            <a:ext cx="479736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1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" fill="hold"/>
                                        <p:tgtEl>
                                          <p:spTgt spid="1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,4,8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7,2,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9,2,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,2,8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69840" y="2766960"/>
            <a:ext cx="481500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" fill="hold"/>
                                        <p:tgtEl>
                                          <p:spTgt spid="1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0,8,6,4,9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33520" y="609588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10,2,5,6,3,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,10,5,4,3,6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,9,2,5,10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0" y="2730600"/>
            <a:ext cx="481500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75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200"/>
                            </p:stCondLst>
                            <p:childTnLst>
                              <p:par>
                                <p:cTn id="48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700"/>
                            </p:stCondLst>
                            <p:childTnLst>
                              <p:par>
                                <p:cTn id="4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8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200"/>
                            </p:stCondLst>
                            <p:childTnLst>
                              <p:par>
                                <p:cTn id="4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1" fill="hold"/>
                                        <p:tgtEl>
                                          <p:spTgt spid="1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4,9,8,6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8,2,4,6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7,8,6,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/>
          <p:nvPr/>
        </p:nvSpPr>
        <p:spPr>
          <a:xfrm>
            <a:off x="69840" y="2766960"/>
            <a:ext cx="48196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1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3" dur="1" fill="hold"/>
                                        <p:tgtEl>
                                          <p:spTgt spid="1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2,3,4,6,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9,8,6,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,3,4,6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7,8,2,3,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5" name=""/>
          <p:cNvSpPr/>
          <p:nvPr/>
        </p:nvSpPr>
        <p:spPr>
          <a:xfrm>
            <a:off x="69840" y="2766960"/>
            <a:ext cx="49942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7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1" fill="hold"/>
                                        <p:tgtEl>
                                          <p:spTgt spid="1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29120" y="2508120"/>
            <a:ext cx="32176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rek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2706840" y="5651640"/>
            <a:ext cx="40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o Wants to be a Million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1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,9,4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,4,7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,3,9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9,5,1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69840" y="2766960"/>
            <a:ext cx="489276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22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9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5" dur="1" fill="hold"/>
                                        <p:tgtEl>
                                          <p:spTgt spid="1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6" dur="1" fill="hold"/>
                                        <p:tgtEl>
                                          <p:spTgt spid="1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5,10,4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2,3,4,7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2,3,4,6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9.3,4,8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5" name=""/>
          <p:cNvSpPr/>
          <p:nvPr/>
        </p:nvSpPr>
        <p:spPr>
          <a:xfrm>
            <a:off x="69840" y="2766960"/>
            <a:ext cx="49928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4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1" fill="hold"/>
                                        <p:tgtEl>
                                          <p:spTgt spid="19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" fill="hold"/>
                                        <p:tgtEl>
                                          <p:spTgt spid="19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,2,4,12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9,3,2,4,8,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8,3,4,6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2,8,3,2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0" name=""/>
          <p:cNvSpPr/>
          <p:nvPr/>
        </p:nvSpPr>
        <p:spPr>
          <a:xfrm>
            <a:off x="69840" y="2766960"/>
            <a:ext cx="508176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14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1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7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2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3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1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9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8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5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6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5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3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1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8" name="" descr=""/>
          <p:cNvPicPr/>
          <p:nvPr/>
        </p:nvPicPr>
        <p:blipFill>
          <a:blip r:embed="rId2"/>
          <a:stretch/>
        </p:blipFill>
        <p:spPr>
          <a:xfrm>
            <a:off x="-1039680" y="-1314360"/>
            <a:ext cx="13093560" cy="11904480"/>
          </a:xfrm>
          <a:prstGeom prst="rect">
            <a:avLst/>
          </a:prstGeom>
          <a:ln w="0">
            <a:noFill/>
          </a:ln>
        </p:spPr>
      </p:pic>
      <p:sp>
        <p:nvSpPr>
          <p:cNvPr id="2129" name=""/>
          <p:cNvSpPr/>
          <p:nvPr/>
        </p:nvSpPr>
        <p:spPr>
          <a:xfrm>
            <a:off x="-330120" y="950760"/>
            <a:ext cx="947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Times New Roman"/>
              </a:rPr>
              <a:t>           </a:t>
            </a:r>
            <a:r>
              <a:rPr b="1" lang="en-US" sz="7200" spc="-1" strike="noStrike">
                <a:solidFill>
                  <a:srgbClr val="ffcc00"/>
                </a:solidFill>
                <a:latin typeface="Times New Roman"/>
              </a:rPr>
              <a:t>YOU WIN                                          </a:t>
            </a:r>
            <a:r>
              <a:rPr b="1" lang="en-US" sz="800" spc="-1" strike="noStrike">
                <a:solidFill>
                  <a:srgbClr val="ffcc00"/>
                </a:solidFill>
                <a:latin typeface="Times New Roman"/>
              </a:rPr>
              <a:t>  .                                                                          </a:t>
            </a:r>
            <a:r>
              <a:rPr b="1" lang="en-US" sz="7200" spc="-1" strike="noStrike">
                <a:solidFill>
                  <a:srgbClr val="ffcc00"/>
                </a:solidFill>
                <a:latin typeface="Times New Roman"/>
              </a:rPr>
              <a:t>$1 MILLION       </a:t>
            </a:r>
            <a:r>
              <a:rPr b="1" lang="en-US" sz="800" spc="-1" strike="noStrike">
                <a:solidFill>
                  <a:srgbClr val="ffcc00"/>
                </a:solidFill>
                <a:latin typeface="Times New Roman"/>
              </a:rPr>
              <a:t>-                              . . .. …                                                                            </a:t>
            </a:r>
            <a:r>
              <a:rPr b="1" lang="en-US" sz="7200" spc="-1" strike="noStrike">
                <a:solidFill>
                  <a:srgbClr val="ffcc00"/>
                </a:solidFill>
                <a:latin typeface="Times New Roman"/>
              </a:rPr>
              <a:t>DOLLARS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8" dur="1" fill="hold"/>
                                        <p:tgtEl>
                                          <p:spTgt spid="20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2638440"/>
            <a:ext cx="4979880" cy="10605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2565360"/>
            <a:ext cx="4962600" cy="11527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2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7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9,4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,5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,9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69840" y="2766960"/>
            <a:ext cx="488952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hich number is divisible by 5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ICt Department</cp:lastModifiedBy>
  <dcterms:modified xsi:type="dcterms:W3CDTF">2009-03-18T17:29:30Z</dcterms:modified>
  <cp:revision>24</cp:revision>
  <dc:subject/>
  <dc:title>No Slide Title</dc:title>
</cp:coreProperties>
</file>